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E1B-B57C-4EC4-80D0-5AE35BD6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D38-464D-4A9E-9AF7-F113DBC4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8D8-D655-4587-8C44-CA280A9A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EA32-5B21-431C-8598-332771DF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7363-57C7-4C61-BA9F-7239508F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DB1C-B0EA-4E91-B12B-1998EF2C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A738-3562-4452-953D-B1F6C822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9DB0-B71A-40B5-ADD0-5612D58C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307E-7E58-44D8-B851-E6D3C224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CA3D-FEA2-4C83-8222-3F99BE36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99C4-BF10-4E00-BA0F-A5BA9813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3DA-BBAD-4F05-91AB-C926ABD1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55D3-2254-42F3-B5A7-8233456C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9492-AA62-47D9-B77E-672BD9A7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2DF9-7137-4E6E-8280-02A550E2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AFA1-A22F-4954-9300-5F1A92D6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E33F-9F0D-4E6F-8E0A-D271507F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666-7350-4884-8DB9-AC78FD57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532B-5964-4C33-8628-051E4685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8B2-A9E5-44E0-8914-1A1AB3C2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CBB-D45A-4B87-8F1C-AC3AC958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635-09BF-4AB2-8F90-474F52B6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6A1-33C8-4AB3-9E80-C5D8647D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A2A-78BA-40E9-B5D3-E3A2FBDD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8BB0-CEBC-425B-8D5D-BECB4927A2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D4AE-FBCB-435B-8B3B-3BF5A94748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merica Needs Its Nerds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99840" y="4876560"/>
            <a:ext cx="70102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ice for the Ess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00200" y="380880"/>
            <a:ext cx="579132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ize the passage’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ssag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te at least 3 methods you see being used to communicate 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22510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ody Paragraph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 one f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eac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you stated in the intro. (Total of 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IMS: state the method and its effec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: give examples from the tex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ARRANTS: explain HOW the method creates the effec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E: d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at least TW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lusters per paragrap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238880" y="76320"/>
            <a:ext cx="1725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te the overall effect of the methods you discusse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te which method was the most effective and wh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477120" y="76320"/>
            <a:ext cx="24667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SIBLE AREAS OF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20570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THODS OF ORGAN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lust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s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aris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386400" y="2590920"/>
            <a:ext cx="22719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SIBLE AREAS OF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HETORICAL TECHNIQ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ot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hetorical Ques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HETORICAL SITU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gan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agraph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so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n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57920" y="3581280"/>
            <a:ext cx="3019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ALYSIS ESSAY CLUS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AIM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tes method or technique &amp; eff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A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ives examples from the tex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RRANT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plains HOW the technique creates the eff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486400" y="5051520"/>
            <a:ext cx="253692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me possible effects are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create empathy/sympat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give empha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make abstract concre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clari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create t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build up to a clima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21:24:21Z</dcterms:created>
  <dc:creator>\]</dc:creator>
  <dc:description/>
  <dc:language>en-US</dc:language>
  <cp:lastModifiedBy>\]</cp:lastModifiedBy>
  <dcterms:modified xsi:type="dcterms:W3CDTF">2008-09-23T20:08:51Z</dcterms:modified>
  <cp:revision>5</cp:revision>
  <dc:subject/>
  <dc:title>America Needs Its Nerds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